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093-ECD8-4AE8-9E2F-3AE704D8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F9F-1110-47F3-AE7B-8A6E7E06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E3B-B72F-4864-A276-29A295D0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0104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208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93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90104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8208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048-B7FF-4E84-BFC8-F92DF0D6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8D03-6A6B-418C-BB22-0C385A97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1294-5403-4F70-90B8-51435BB8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EE78-5E07-4368-BFD6-85F3F762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DC4E-A83E-4F8B-B0A5-06F93278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3206-E9E8-4227-8191-828BA17D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593360" y="177840"/>
            <a:ext cx="978228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FAEF-B86D-4DBB-B08E-97929BC2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98B5-37D9-4265-BC2F-16C5DC63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B316-7337-4F9A-AB6C-E3E7754D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F443-9F5D-42E8-ACA5-1286D23C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0E88-BF2D-411D-A081-8B67B6CD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652B-0F54-425B-99A6-67A6F128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B1B0-CCC5-4856-ABBE-93E5496E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0104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208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593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90104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208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34DD-288A-415A-B89C-E21BBC16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2145B-84EC-4B3A-8A08-BE38546E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FCD81-DDEC-45AB-AB26-B7CE3B95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CB33D-7AC7-49DC-A8DD-23F3601E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90EB6-4523-4EB5-822C-761B4BBA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0E34A-F172-4FB8-9FEC-31099662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F549-441B-4635-B88C-0A46434D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593360" y="177840"/>
            <a:ext cx="978228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F7AAE-52C6-4420-A5F3-78D9677B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6F23A-8C3F-421A-8B8C-5A622193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FF56E-AE6E-42B8-B0C8-2E842664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5812F-CFC0-457A-B434-83E23E63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83677-A688-42F3-A0B4-FCF41199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D59DC-8EEE-450D-91B5-62C28BD2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104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208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1593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90104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8208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9D391-E244-474D-BC3A-55C39CE4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7B4B7-C4F8-4DD5-A91C-2994B407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B630B-04A8-4FC2-B77D-DB59D562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7DB5A-7D2A-4A45-9140-E09F96E6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939-E688-47CF-A556-CCBEF89D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66712-0B0C-435F-BA22-041A4AB0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3A9B1-A7A7-425E-B830-3E573707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93360" y="177840"/>
            <a:ext cx="978228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1054C-801C-4493-B96F-E470DFA1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A43BE-56D6-4229-88B2-A2D0B74A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EE099-5315-4450-85FC-FD82D2FC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265D5-44FC-445E-A5F1-30B0F571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E7EB0-EA18-4D34-974C-31DC6282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86425-D3AE-46C4-8E7E-E774472A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0104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08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593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90104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8208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65F41-0AE8-499D-8982-A7EBA533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4158E-CD69-475C-8335-7796CCD3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23D-0D60-40BC-AB4B-611E0A4D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3C5E5-FC40-46D2-9B31-B2DBBCAD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1AAD1-F059-4398-A22A-1F436F15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9CAB3-BB10-41B4-B6C1-067510D2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0774A-D60A-49A6-9848-CF1E43BF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593360" y="177840"/>
            <a:ext cx="978228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1A18D-AD5D-401A-89FB-09950105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97C68-76E6-4D99-945E-A41DC64D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E87D7-59A8-4E88-A090-48ABA30D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9E392-C3BF-424B-A102-B4577FBD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5C50D-7B32-4782-802D-0F00755F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72321-B47B-4D0D-ABE7-37000E4E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93360" y="177840"/>
            <a:ext cx="978228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09C-26F5-4B0B-94A4-AC931C44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0104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208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593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490104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8208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B5F43-96D7-4DC8-B8FE-4B26D6A7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82EA0-CD64-4F44-ADBE-C2AAE5A7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99A5F-6F2E-4EB4-A68E-CD0B4A8E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5A36E-1084-432C-8CE8-D26507E8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D9E62-3197-4F3A-91F4-D6450AEA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A27C7-1B7F-4281-8321-B603EB95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593360" y="177840"/>
            <a:ext cx="978228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2EC09-57FA-42EE-995A-735E4133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E77C4-BC7F-4818-B242-C50A0462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0E8F0-4A17-4369-B8E0-8C4CE898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24275-26D6-4B45-8250-899EF10F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B57-BDB1-4325-A5EC-40AAAFF2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6D9A5-45E6-4CE2-81C6-B27221E4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13888-1185-4989-8E3B-7FDB970A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0104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208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593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490104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8208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19911-C55E-4CD6-AE5E-28F93BCB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76595-F028-4828-8CD2-627DE1DA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BF584-B00A-4520-90E3-7FE75943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AC93B-6811-46FE-A8D9-A79A4077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70CA5-C082-4B70-97CF-A4FD353B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5E69D-4856-46FD-BD91-A972F39F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593360" y="177840"/>
            <a:ext cx="978228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03286-68EC-4C78-8D4B-56F324A0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D0CC4-240E-4808-AB7B-A1B4CA41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56A-D004-4AA0-BA6D-B1B8E76A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26368-9D35-4DC6-AF0D-C7B5AAEA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9D6A3-ADF4-4260-8620-9875DD97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203B8-4723-4647-A274-5C6CE700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AF0FE-D1B0-4B3D-8B19-A4B52662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0104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208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593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90104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208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62A3D-2010-4F99-AD9F-1F7EE147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D22-5948-447C-A9BE-7DB84908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1883960" y="0"/>
            <a:ext cx="304920" cy="6858000"/>
          </a:xfrm>
          <a:prstGeom prst="rect">
            <a:avLst/>
          </a:prstGeom>
          <a:solidFill>
            <a:srgbClr val="475562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617400" y="0"/>
            <a:ext cx="609840" cy="6858000"/>
          </a:xfrm>
          <a:prstGeom prst="rect">
            <a:avLst/>
          </a:prstGeom>
          <a:solidFill>
            <a:srgbClr val="9ba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6a809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617400" y="736560"/>
            <a:ext cx="609840" cy="609480"/>
          </a:xfrm>
          <a:prstGeom prst="rect">
            <a:avLst/>
          </a:prstGeom>
          <a:solidFill>
            <a:srgbClr val="47556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4" name="Straight Connector 13"/>
          <p:cNvSpPr/>
          <p:nvPr/>
        </p:nvSpPr>
        <p:spPr>
          <a:xfrm>
            <a:off x="617400" y="736560"/>
            <a:ext cx="609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5" name="Straight Connector 14"/>
          <p:cNvSpPr/>
          <p:nvPr/>
        </p:nvSpPr>
        <p:spPr>
          <a:xfrm>
            <a:off x="617400" y="1346040"/>
            <a:ext cx="609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6" name="Pi"/>
          <p:cNvSpPr/>
          <p:nvPr/>
        </p:nvSpPr>
        <p:spPr>
          <a:xfrm>
            <a:off x="755640" y="898560"/>
            <a:ext cx="33660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7" name="Straight Connector 15"/>
          <p:cNvSpPr/>
          <p:nvPr/>
        </p:nvSpPr>
        <p:spPr>
          <a:xfrm>
            <a:off x="617400" y="0"/>
            <a:ext cx="0" cy="685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5404a"/>
                </a:solidFill>
                <a:latin typeface="Euphemia"/>
              </a:rPr>
              <a:t>Click to edit the title text format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Click to edit the outline text format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1" marL="61128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con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2" marL="97776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Thir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3" marL="134316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our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4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if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5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ix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6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ven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51796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6595920" y="6356520"/>
            <a:ext cx="3973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7661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9aa9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D874-A369-4739-A9BE-EAA8FBBA2C37}" type="slidenum">
              <a:rPr b="0" lang="en-US" sz="1200" spc="-1" strike="noStrike">
                <a:solidFill>
                  <a:srgbClr val="879aa9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11579400" y="5638680"/>
            <a:ext cx="609480" cy="1219320"/>
          </a:xfrm>
          <a:prstGeom prst="rect">
            <a:avLst/>
          </a:prstGeom>
          <a:solidFill>
            <a:srgbClr val="9ba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11274480" y="5638680"/>
            <a:ext cx="304920" cy="1219320"/>
          </a:xfrm>
          <a:prstGeom prst="rect">
            <a:avLst/>
          </a:prstGeom>
          <a:solidFill>
            <a:srgbClr val="6a8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1219320" y="0"/>
            <a:ext cx="609480" cy="6858000"/>
          </a:xfrm>
          <a:prstGeom prst="rect">
            <a:avLst/>
          </a:prstGeom>
          <a:solidFill>
            <a:srgbClr val="9ba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6a8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0" y="5638680"/>
            <a:ext cx="12188880" cy="1219320"/>
          </a:xfrm>
          <a:prstGeom prst="rect">
            <a:avLst/>
          </a:prstGeom>
          <a:solidFill>
            <a:srgbClr val="6a8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54" name="Straight Connector 12"/>
          <p:cNvSpPr/>
          <p:nvPr/>
        </p:nvSpPr>
        <p:spPr>
          <a:xfrm>
            <a:off x="11572920" y="5638680"/>
            <a:ext cx="0" cy="1219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0" y="5643720"/>
            <a:ext cx="1216080" cy="1214280"/>
          </a:xfrm>
          <a:prstGeom prst="rect">
            <a:avLst/>
          </a:prstGeom>
          <a:solidFill>
            <a:srgbClr val="47556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56" name="Straight Connector 14"/>
          <p:cNvSpPr/>
          <p:nvPr/>
        </p:nvSpPr>
        <p:spPr>
          <a:xfrm>
            <a:off x="1219320" y="0"/>
            <a:ext cx="0" cy="685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57" name="Straight Connector 15"/>
          <p:cNvSpPr/>
          <p:nvPr/>
        </p:nvSpPr>
        <p:spPr>
          <a:xfrm>
            <a:off x="0" y="5630760"/>
            <a:ext cx="18288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58" name="Pi"/>
          <p:cNvSpPr/>
          <p:nvPr/>
        </p:nvSpPr>
        <p:spPr>
          <a:xfrm>
            <a:off x="276120" y="6032520"/>
            <a:ext cx="594000" cy="51912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5404a"/>
                </a:solidFill>
                <a:latin typeface="Euphemia"/>
              </a:rPr>
              <a:t>Click to edit the title text format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Click to edit the outline text format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1" marL="61128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con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2" marL="97776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Thir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3" marL="134316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our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4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if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5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ix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6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ven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1796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6595920" y="6356520"/>
            <a:ext cx="3973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7661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61B0-9994-416D-B4DB-57F34953ECB6}" type="slidenum">
              <a:rPr b="0" lang="en-US" sz="1200" spc="-1" strike="noStrike">
                <a:solidFill>
                  <a:srgbClr val="ffffff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8"/>
          <p:cNvSpPr/>
          <p:nvPr/>
        </p:nvSpPr>
        <p:spPr>
          <a:xfrm>
            <a:off x="11579400" y="5638680"/>
            <a:ext cx="609480" cy="1219320"/>
          </a:xfrm>
          <a:prstGeom prst="rect">
            <a:avLst/>
          </a:prstGeom>
          <a:solidFill>
            <a:srgbClr val="9ba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11274480" y="5638680"/>
            <a:ext cx="304920" cy="1219320"/>
          </a:xfrm>
          <a:prstGeom prst="rect">
            <a:avLst/>
          </a:prstGeom>
          <a:solidFill>
            <a:srgbClr val="6a8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1216080" y="5638680"/>
            <a:ext cx="609480" cy="1219320"/>
          </a:xfrm>
          <a:prstGeom prst="rect">
            <a:avLst/>
          </a:prstGeom>
          <a:solidFill>
            <a:srgbClr val="9ba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0" y="5638680"/>
            <a:ext cx="12188880" cy="1219320"/>
          </a:xfrm>
          <a:prstGeom prst="rect">
            <a:avLst/>
          </a:prstGeom>
          <a:solidFill>
            <a:srgbClr val="6a8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04" name="Straight Connector 21"/>
          <p:cNvSpPr/>
          <p:nvPr/>
        </p:nvSpPr>
        <p:spPr>
          <a:xfrm>
            <a:off x="11572920" y="5638680"/>
            <a:ext cx="0" cy="1219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0" y="5643720"/>
            <a:ext cx="1216080" cy="1214280"/>
          </a:xfrm>
          <a:prstGeom prst="rect">
            <a:avLst/>
          </a:prstGeom>
          <a:solidFill>
            <a:srgbClr val="47556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06" name="Pi"/>
          <p:cNvSpPr/>
          <p:nvPr/>
        </p:nvSpPr>
        <p:spPr>
          <a:xfrm>
            <a:off x="276120" y="6032520"/>
            <a:ext cx="594000" cy="51912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07" name="Straight Connector 22"/>
          <p:cNvSpPr/>
          <p:nvPr/>
        </p:nvSpPr>
        <p:spPr>
          <a:xfrm>
            <a:off x="1216080" y="5638680"/>
            <a:ext cx="0" cy="1219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08" name="Rectangle 25"/>
          <p:cNvSpPr/>
          <p:nvPr/>
        </p:nvSpPr>
        <p:spPr>
          <a:xfrm>
            <a:off x="11579400" y="0"/>
            <a:ext cx="609480" cy="609480"/>
          </a:xfrm>
          <a:prstGeom prst="rect">
            <a:avLst/>
          </a:prstGeom>
          <a:solidFill>
            <a:srgbClr val="9ba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09" name="Rectangle 26"/>
          <p:cNvSpPr/>
          <p:nvPr/>
        </p:nvSpPr>
        <p:spPr>
          <a:xfrm>
            <a:off x="11274480" y="0"/>
            <a:ext cx="304920" cy="609480"/>
          </a:xfrm>
          <a:prstGeom prst="rect">
            <a:avLst/>
          </a:prstGeom>
          <a:solidFill>
            <a:srgbClr val="6a8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1219320" y="0"/>
            <a:ext cx="609480" cy="609480"/>
          </a:xfrm>
          <a:prstGeom prst="rect">
            <a:avLst/>
          </a:prstGeom>
          <a:solidFill>
            <a:srgbClr val="9ba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11" name="Rectangle 28"/>
          <p:cNvSpPr/>
          <p:nvPr/>
        </p:nvSpPr>
        <p:spPr>
          <a:xfrm>
            <a:off x="0" y="0"/>
            <a:ext cx="1219320" cy="609480"/>
          </a:xfrm>
          <a:prstGeom prst="rect">
            <a:avLst/>
          </a:prstGeom>
          <a:solidFill>
            <a:srgbClr val="6a8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12" name="Rectangle 29"/>
          <p:cNvSpPr/>
          <p:nvPr/>
        </p:nvSpPr>
        <p:spPr>
          <a:xfrm>
            <a:off x="0" y="0"/>
            <a:ext cx="12188880" cy="609480"/>
          </a:xfrm>
          <a:prstGeom prst="rect">
            <a:avLst/>
          </a:prstGeom>
          <a:solidFill>
            <a:srgbClr val="6a8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13" name="Straight Connector 30"/>
          <p:cNvSpPr/>
          <p:nvPr/>
        </p:nvSpPr>
        <p:spPr>
          <a:xfrm>
            <a:off x="11572920" y="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14" name="Rectangle 31"/>
          <p:cNvSpPr/>
          <p:nvPr/>
        </p:nvSpPr>
        <p:spPr>
          <a:xfrm>
            <a:off x="0" y="0"/>
            <a:ext cx="1216080" cy="609480"/>
          </a:xfrm>
          <a:prstGeom prst="rect">
            <a:avLst/>
          </a:prstGeom>
          <a:solidFill>
            <a:srgbClr val="47556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15" name="Straight Connector 32"/>
          <p:cNvSpPr/>
          <p:nvPr/>
        </p:nvSpPr>
        <p:spPr>
          <a:xfrm>
            <a:off x="1219320" y="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5404a"/>
                </a:solidFill>
                <a:latin typeface="Euphemia"/>
              </a:rPr>
              <a:t>Click to edit the title text format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Click to edit the outline text format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1" marL="61128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con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2" marL="97776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Thir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3" marL="134316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our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4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if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5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ix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6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ven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51796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6595920" y="6356520"/>
            <a:ext cx="3973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107661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49F5-5E51-4C0A-8C54-AD2B98498E79}" type="slidenum">
              <a:rPr b="0" lang="en-US" sz="1200" spc="-1" strike="noStrike">
                <a:solidFill>
                  <a:srgbClr val="ffffff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625320" y="0"/>
            <a:ext cx="304920" cy="6858000"/>
          </a:xfrm>
          <a:prstGeom prst="rect">
            <a:avLst/>
          </a:prstGeom>
          <a:solidFill>
            <a:srgbClr val="9ba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6a809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59" name="Straight Connector 6"/>
          <p:cNvSpPr/>
          <p:nvPr/>
        </p:nvSpPr>
        <p:spPr>
          <a:xfrm>
            <a:off x="617400" y="0"/>
            <a:ext cx="0" cy="685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0969560" y="0"/>
            <a:ext cx="922320" cy="6858000"/>
          </a:xfrm>
          <a:prstGeom prst="rect">
            <a:avLst/>
          </a:prstGeom>
          <a:solidFill>
            <a:srgbClr val="6a809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1891880" y="0"/>
            <a:ext cx="304920" cy="6858000"/>
          </a:xfrm>
          <a:prstGeom prst="rect">
            <a:avLst/>
          </a:prstGeom>
          <a:solidFill>
            <a:srgbClr val="475562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5404a"/>
                </a:solidFill>
                <a:latin typeface="Euphemia"/>
              </a:rPr>
              <a:t>Click to edit the title text format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Click to edit the outline text format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1" marL="61128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con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2" marL="97776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Thir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3" marL="134316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our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4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if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5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ix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6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ven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51796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6595920" y="6356520"/>
            <a:ext cx="3973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107661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2AE8-AC35-4127-B38C-BBDC13787DE3}" type="slidenum">
              <a:rPr b="0" lang="en-US" sz="1200" spc="-1" strike="noStrike">
                <a:solidFill>
                  <a:srgbClr val="ffffff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622440" y="0"/>
            <a:ext cx="4146480" cy="6858000"/>
          </a:xfrm>
          <a:prstGeom prst="rect">
            <a:avLst/>
          </a:prstGeom>
          <a:solidFill>
            <a:srgbClr val="4755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6a809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05" name="Straight Connector 9"/>
          <p:cNvSpPr/>
          <p:nvPr/>
        </p:nvSpPr>
        <p:spPr>
          <a:xfrm>
            <a:off x="622440" y="0"/>
            <a:ext cx="0" cy="685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11883960" y="0"/>
            <a:ext cx="304920" cy="6858000"/>
          </a:xfrm>
          <a:prstGeom prst="rect">
            <a:avLst/>
          </a:prstGeom>
          <a:solidFill>
            <a:srgbClr val="4755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5404a"/>
                </a:solidFill>
                <a:latin typeface="Euphemia"/>
              </a:rPr>
              <a:t>Click to edit the title text format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Click to edit the outline text format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1" marL="61128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con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2" marL="97776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Thir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3" marL="134316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our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4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if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5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ix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6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ven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51796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6595920" y="6356520"/>
            <a:ext cx="3973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107661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9aa9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D5AD-C22C-4765-A38D-C5A49FA599FF}" type="slidenum">
              <a:rPr b="0" lang="en-US" sz="1200" spc="-1" strike="noStrike">
                <a:solidFill>
                  <a:srgbClr val="879aa9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6a809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11883960" y="0"/>
            <a:ext cx="304920" cy="6858000"/>
          </a:xfrm>
          <a:prstGeom prst="rect">
            <a:avLst/>
          </a:prstGeom>
          <a:solidFill>
            <a:srgbClr val="4755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4875120" y="0"/>
            <a:ext cx="7016760" cy="6858000"/>
          </a:xfrm>
          <a:prstGeom prst="rect">
            <a:avLst/>
          </a:prstGeom>
          <a:solidFill>
            <a:srgbClr val="c3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51" name="Straight Connector 9"/>
          <p:cNvSpPr/>
          <p:nvPr/>
        </p:nvSpPr>
        <p:spPr>
          <a:xfrm>
            <a:off x="11879280" y="0"/>
            <a:ext cx="0" cy="685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5404a"/>
                </a:solidFill>
                <a:latin typeface="Euphemia"/>
              </a:rPr>
              <a:t>Click to edit the title text format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Click to edit the outline text format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1" marL="61128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con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2" marL="97776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Thir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3" marL="134316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our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4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if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5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ix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6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ven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51796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6595920" y="6356520"/>
            <a:ext cx="3973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107661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9aa9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67FD-A934-4512-B84B-E7A805B418B7}" type="slidenum">
              <a:rPr b="0" lang="en-US" sz="1200" spc="-1" strike="noStrike">
                <a:solidFill>
                  <a:srgbClr val="879aa9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11883960" y="0"/>
            <a:ext cx="304920" cy="6858000"/>
          </a:xfrm>
          <a:prstGeom prst="rect">
            <a:avLst/>
          </a:prstGeom>
          <a:solidFill>
            <a:srgbClr val="475562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617400" y="0"/>
            <a:ext cx="609840" cy="6858000"/>
          </a:xfrm>
          <a:prstGeom prst="rect">
            <a:avLst/>
          </a:prstGeom>
          <a:solidFill>
            <a:srgbClr val="9ba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6a809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617400" y="736560"/>
            <a:ext cx="609840" cy="609480"/>
          </a:xfrm>
          <a:prstGeom prst="rect">
            <a:avLst/>
          </a:prstGeom>
          <a:solidFill>
            <a:srgbClr val="47556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97" name="Straight Connector 10"/>
          <p:cNvSpPr/>
          <p:nvPr/>
        </p:nvSpPr>
        <p:spPr>
          <a:xfrm>
            <a:off x="617400" y="736560"/>
            <a:ext cx="609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98" name="Straight Connector 11"/>
          <p:cNvSpPr/>
          <p:nvPr/>
        </p:nvSpPr>
        <p:spPr>
          <a:xfrm>
            <a:off x="617400" y="1346040"/>
            <a:ext cx="609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99" name="Pi"/>
          <p:cNvSpPr/>
          <p:nvPr/>
        </p:nvSpPr>
        <p:spPr>
          <a:xfrm rot="5400000">
            <a:off x="756000" y="897480"/>
            <a:ext cx="334800" cy="29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300" name="Straight Connector 13"/>
          <p:cNvSpPr/>
          <p:nvPr/>
        </p:nvSpPr>
        <p:spPr>
          <a:xfrm>
            <a:off x="617400" y="0"/>
            <a:ext cx="0" cy="685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5404a"/>
                </a:solidFill>
                <a:latin typeface="Euphemia"/>
              </a:rPr>
              <a:t>Click to edit the title text format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Click to edit the outline text format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1" marL="61128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con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2" marL="97776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Thir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3" marL="134316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our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4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if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5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ix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6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ven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51796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6595920" y="6356520"/>
            <a:ext cx="3973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107661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9aa9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ABA6-0537-4D7F-9E04-9CA385E7E8D4}" type="slidenum">
              <a:rPr b="0" lang="en-US" sz="1200" spc="-1" strike="noStrike">
                <a:solidFill>
                  <a:srgbClr val="879aa9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Para_genios_en_matematicas_1.pps" TargetMode="External"/><Relationship Id="rId2" Type="http://schemas.openxmlformats.org/officeDocument/2006/relationships/hyperlink" Target="file:///../Para_genios_en_matematicas_1.pps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Desaf&#237;o%20matem&#225;tico.doc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AREA%20Elaboremos%20un%20art&#237;culo.do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665440" y="1642680"/>
            <a:ext cx="885024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c00000"/>
                </a:solidFill>
                <a:latin typeface="Euphemia"/>
              </a:rPr>
              <a:t>La función supervisora </a:t>
            </a:r>
            <a:br>
              <a:rPr sz="4400"/>
            </a:br>
            <a:r>
              <a:rPr b="1" lang="es-MX" sz="4400" spc="-1" strike="noStrike">
                <a:solidFill>
                  <a:srgbClr val="c00000"/>
                </a:solidFill>
                <a:latin typeface="Euphemia"/>
              </a:rPr>
              <a:t>para fortalecer el desarrollo del pensamiento lógico- matemático</a:t>
            </a:r>
            <a:endParaRPr b="0" lang="en-US" sz="44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3665520" y="5429160"/>
            <a:ext cx="751536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00"/>
                </a:solidFill>
                <a:latin typeface="Euphemia"/>
              </a:rPr>
              <a:t>Unión de Tula, Jal., Enero de 2015</a:t>
            </a:r>
            <a:endParaRPr b="0" lang="en-US" sz="29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65562"/>
              </a:solidFill>
              <a:latin typeface="Euphemia"/>
            </a:endParaRPr>
          </a:p>
        </p:txBody>
      </p:sp>
      <p:pic>
        <p:nvPicPr>
          <p:cNvPr id="344" name="4 Imagen" descr="LOGO EDUCACION"/>
          <p:cNvPicPr/>
          <p:nvPr/>
        </p:nvPicPr>
        <p:blipFill>
          <a:blip r:embed="rId1"/>
          <a:stretch/>
        </p:blipFill>
        <p:spPr>
          <a:xfrm>
            <a:off x="3665520" y="0"/>
            <a:ext cx="5388120" cy="2071800"/>
          </a:xfrm>
          <a:prstGeom prst="rect">
            <a:avLst/>
          </a:prstGeom>
          <a:ln w="0">
            <a:noFill/>
          </a:ln>
        </p:spPr>
      </p:pic>
      <p:pic>
        <p:nvPicPr>
          <p:cNvPr id="345" name="4 Rectángulo" descr=""/>
          <p:cNvPicPr/>
          <p:nvPr/>
        </p:nvPicPr>
        <p:blipFill>
          <a:blip r:embed="rId2"/>
          <a:stretch/>
        </p:blipFill>
        <p:spPr>
          <a:xfrm>
            <a:off x="7845480" y="4438800"/>
            <a:ext cx="4127400" cy="118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Presentemos al grupo los productos.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 </a:t>
            </a: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¡Jugando… nos divertimos y aprendemos! 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6240" indent="-246240" algn="just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Euphemia"/>
              </a:rPr>
              <a:t>Integrados en equipos, realicemos las actividades siguientes: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6240" indent="-24624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A. </a:t>
            </a:r>
            <a:r>
              <a:rPr b="0" lang="es-MX" sz="2800" spc="-1" strike="noStrike">
                <a:solidFill>
                  <a:srgbClr val="465562"/>
                </a:solidFill>
                <a:latin typeface="Euphemia"/>
              </a:rPr>
              <a:t>Ejercicio criptoaritmético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6240" indent="-24624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B. </a:t>
            </a:r>
            <a:r>
              <a:rPr b="0" lang="es-MX" sz="2800" spc="-1" strike="noStrike">
                <a:solidFill>
                  <a:srgbClr val="465562"/>
                </a:solidFill>
                <a:latin typeface="Euphemia"/>
              </a:rPr>
              <a:t>Tiro al blanco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6240" indent="-24624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C. </a:t>
            </a:r>
            <a:r>
              <a:rPr b="0" lang="es-MX" sz="2800" spc="-1" strike="noStrike">
                <a:solidFill>
                  <a:srgbClr val="465562"/>
                </a:solidFill>
                <a:latin typeface="Euphemia"/>
              </a:rPr>
              <a:t>¡Construyamos un cubo!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6240" indent="-24624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D</a:t>
            </a:r>
            <a:r>
              <a:rPr b="0" lang="es-MX" sz="2800" spc="-1" strike="noStrike" u="sng">
                <a:solidFill>
                  <a:srgbClr val="8fc48c"/>
                </a:solidFill>
                <a:uFillTx/>
                <a:latin typeface="Euphemia"/>
                <a:hlinkClick r:id="rId1"/>
              </a:rPr>
              <a:t>. </a:t>
            </a:r>
            <a:r>
              <a:rPr b="0" lang="es-MX" sz="2800" spc="-1" strike="noStrike" u="sng">
                <a:solidFill>
                  <a:srgbClr val="8fc48c"/>
                </a:solidFill>
                <a:uFillTx/>
                <a:latin typeface="Euphemia"/>
                <a:hlinkClick r:id="rId2"/>
              </a:rPr>
              <a:t>Los cuatro cuatros</a:t>
            </a:r>
            <a:r>
              <a:rPr b="0" lang="es-MX" sz="2800" spc="-1" strike="noStrike">
                <a:solidFill>
                  <a:srgbClr val="465562"/>
                </a:solidFill>
                <a:latin typeface="Euphemia"/>
              </a:rPr>
              <a:t>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6240" indent="-24624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E. </a:t>
            </a:r>
            <a:r>
              <a:rPr b="0" lang="es-MX" sz="2800" spc="-1" strike="noStrike">
                <a:solidFill>
                  <a:srgbClr val="465562"/>
                </a:solidFill>
                <a:latin typeface="Euphemia"/>
              </a:rPr>
              <a:t>Sólo tengo dos recipientes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6240" indent="-24624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F. </a:t>
            </a:r>
            <a:r>
              <a:rPr b="0" lang="es-MX" sz="2800" spc="-1" strike="noStrike">
                <a:solidFill>
                  <a:srgbClr val="465562"/>
                </a:solidFill>
                <a:latin typeface="Euphemia"/>
              </a:rPr>
              <a:t>Poesía con matemáticas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Pongamos en común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Una vez resuelto, presentemos en plenaria: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Resultado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Procedimiento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Reflexiones complementarias del ejercicio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98760" y="691920"/>
            <a:ext cx="84564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900" spc="-1" strike="noStrike">
                <a:solidFill>
                  <a:srgbClr val="35404a"/>
                </a:solidFill>
                <a:latin typeface="Euphemia"/>
              </a:rPr>
              <a:t>Problema criptoaritmético</a:t>
            </a:r>
            <a:endParaRPr b="0" lang="en-US" sz="49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598760" y="2133360"/>
            <a:ext cx="7264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465562"/>
                </a:solidFill>
                <a:latin typeface="Euphemia"/>
              </a:rPr>
              <a:t>    </a:t>
            </a: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DONALD +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465562"/>
                </a:solidFill>
                <a:uFillTx/>
                <a:latin typeface="Euphemia"/>
              </a:rPr>
              <a:t>  </a:t>
            </a:r>
            <a:r>
              <a:rPr b="0" lang="es-MX" sz="3200" spc="-1" strike="noStrike" u="sng">
                <a:solidFill>
                  <a:srgbClr val="465562"/>
                </a:solidFill>
                <a:uFillTx/>
                <a:latin typeface="Euphemia"/>
              </a:rPr>
              <a:t>G E RALD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  </a:t>
            </a: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ROBERT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D= 5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Dígitos del 0 al 9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itle 1"/>
          <p:cNvSpPr/>
          <p:nvPr/>
        </p:nvSpPr>
        <p:spPr>
          <a:xfrm>
            <a:off x="1814400" y="-27000"/>
            <a:ext cx="84567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300" spc="-1" strike="noStrike">
                <a:solidFill>
                  <a:srgbClr val="35404a"/>
                </a:solidFill>
                <a:latin typeface="Euphemia"/>
              </a:rPr>
              <a:t>Tiro al blanco</a:t>
            </a:r>
            <a:endParaRPr b="0" lang="en-US" sz="5300" spc="-1" strike="noStrike">
              <a:solidFill>
                <a:srgbClr val="465562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422440" y="692280"/>
          <a:ext cx="7345440" cy="5024160"/>
        </p:xfrm>
        <a:graphic>
          <a:graphicData uri="http://schemas.openxmlformats.org/drawingml/2006/table">
            <a:tbl>
              <a:tblPr/>
              <a:tblGrid>
                <a:gridCol w="3672000"/>
                <a:gridCol w="3673440"/>
              </a:tblGrid>
              <a:tr h="5024160">
                <a:tc>
                  <a:txBody>
                    <a:bodyPr lIns="58680" rIns="58680" tIns="828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r presumir de certero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 tirador atrevido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 encontró comprometido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 el lance en que os refiero: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 fue, que ante una caseta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 la feria del lugar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sumió de no fallar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i un tiro con la escopeta,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 el feriante alzando el gallo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 duro ofreció pagarle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r cada acierto  y cobrarle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tres pesetas el fallo.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8680" rIns="58680" tIns="828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eciséis veces tiró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 tirador afamado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 al fin dijo, despechado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r los tiros que falló: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Mala escopeta fue el cebo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 la causa de mi afrenta,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o ajustada la cuenta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I ME DEBES NI TE DEBO.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 todo el que atentamente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te relato siguió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drá decir fácilmente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uántos tiros acertó. </a:t>
                      </a: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5000" y="765000"/>
            <a:ext cx="11017440" cy="482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5404a"/>
                </a:solidFill>
                <a:latin typeface="Euphemia"/>
              </a:rPr>
              <a:t>-</a:t>
            </a:r>
            <a:endParaRPr b="0" lang="en-US" sz="10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72" name="Title 1"/>
          <p:cNvSpPr/>
          <p:nvPr/>
        </p:nvSpPr>
        <p:spPr>
          <a:xfrm>
            <a:off x="1814400" y="-27000"/>
            <a:ext cx="84567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300" spc="-1" strike="noStrike">
                <a:solidFill>
                  <a:srgbClr val="35404a"/>
                </a:solidFill>
                <a:latin typeface="Euphemia"/>
              </a:rPr>
              <a:t>¡Hagamos un cubo!</a:t>
            </a:r>
            <a:endParaRPr b="0" lang="en-US" sz="5300" spc="-1" strike="noStrike">
              <a:solidFill>
                <a:srgbClr val="465562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773360" y="692280"/>
            <a:ext cx="9434520" cy="48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269720" y="620280"/>
            <a:ext cx="10225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- 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198440" y="620640"/>
            <a:ext cx="1039176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46080" y="-360"/>
            <a:ext cx="82832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900" spc="-1" strike="noStrike">
                <a:solidFill>
                  <a:srgbClr val="35404a"/>
                </a:solidFill>
                <a:latin typeface="Euphemia"/>
              </a:rPr>
              <a:t>Los cuatro cuatros</a:t>
            </a:r>
            <a:endParaRPr b="0" lang="en-US" sz="49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925640" y="692280"/>
            <a:ext cx="9064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“…</a:t>
            </a: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esta tienda se llama “</a:t>
            </a:r>
            <a:r>
              <a:rPr b="0" i="1" lang="es-MX" sz="3200" spc="-1" strike="noStrike">
                <a:solidFill>
                  <a:srgbClr val="465562"/>
                </a:solidFill>
                <a:latin typeface="Euphemia"/>
              </a:rPr>
              <a:t>Los cuatro cuatros</a:t>
            </a: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”. Es una coincidencia digna de la mayor atención.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¿Coincidencia? ¿Por qué?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La inscripción de ese cartel recuerda una de las maravillas del Cálculo: empleando cuatro cuatros podemos formar un número cualquiera…”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65562"/>
                </a:solidFill>
                <a:latin typeface="Euphemia"/>
              </a:rPr>
              <a:t>4</a:t>
            </a:r>
            <a:r>
              <a:rPr b="1" lang="es-MX" sz="3200" spc="-1" strike="noStrike">
                <a:solidFill>
                  <a:srgbClr val="465562"/>
                </a:solidFill>
                <a:latin typeface="Euphemia"/>
              </a:rPr>
              <a:t>	</a:t>
            </a:r>
            <a:r>
              <a:rPr b="1" lang="es-MX" sz="3200" spc="-1" strike="noStrike">
                <a:solidFill>
                  <a:srgbClr val="465562"/>
                </a:solidFill>
                <a:latin typeface="Euphemia"/>
              </a:rPr>
              <a:t>4</a:t>
            </a:r>
            <a:r>
              <a:rPr b="1" lang="es-MX" sz="3200" spc="-1" strike="noStrike">
                <a:solidFill>
                  <a:srgbClr val="465562"/>
                </a:solidFill>
                <a:latin typeface="Euphemia"/>
              </a:rPr>
              <a:t>	</a:t>
            </a:r>
            <a:r>
              <a:rPr b="1" lang="es-MX" sz="3200" spc="-1" strike="noStrike">
                <a:solidFill>
                  <a:srgbClr val="465562"/>
                </a:solidFill>
                <a:latin typeface="Euphemia"/>
              </a:rPr>
              <a:t>4</a:t>
            </a:r>
            <a:r>
              <a:rPr b="1" lang="es-MX" sz="3200" spc="-1" strike="noStrike">
                <a:solidFill>
                  <a:srgbClr val="465562"/>
                </a:solidFill>
                <a:latin typeface="Euphemia"/>
              </a:rPr>
              <a:t>	</a:t>
            </a:r>
            <a:r>
              <a:rPr b="1" lang="es-MX" sz="3200" spc="-1" strike="noStrike">
                <a:solidFill>
                  <a:srgbClr val="465562"/>
                </a:solidFill>
                <a:latin typeface="Euphemia"/>
              </a:rPr>
              <a:t>4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42760" y="-100440"/>
            <a:ext cx="975204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35404a"/>
                </a:solidFill>
                <a:latin typeface="Euphemia"/>
              </a:rPr>
              <a:t>Sólo tengo dos recipientes</a:t>
            </a:r>
            <a:endParaRPr b="0" lang="en-US" sz="54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854360" y="764640"/>
            <a:ext cx="9353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Una persona entró en una tienda en la Rwanda rural y compró 4 litros de aceite de palma. El propietario busca detrás del contador y saca una garrafa grande de aceite, pero se disculpa diciendo que sólo tiene una botella vieja de tres litros y una garrafa de aceite lubricante de 5 litros en los que puede echar el líquido. Le dice que no se preocupe, que es posible medir 4 litros utilizando esos dos recipientes aunque no tenga marcas que sirvan de referencia.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¿Cómo lo hace? 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46080" y="-360"/>
            <a:ext cx="82832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900" spc="-1" strike="noStrike">
                <a:solidFill>
                  <a:srgbClr val="35404a"/>
                </a:solidFill>
                <a:latin typeface="Euphemia"/>
              </a:rPr>
              <a:t>Poesía con matemáticas</a:t>
            </a:r>
            <a:endParaRPr b="0" lang="en-US" sz="49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25360" y="691920"/>
            <a:ext cx="1080144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65562"/>
                </a:solidFill>
                <a:latin typeface="Euphemia"/>
              </a:rPr>
              <a:t>PROBLEMA DE LAS PERLAS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Un collar se rompió mientras jugaban dos enamorados.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Una hilera de perlas se escapó.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La sexta parte al suelo cayó.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La quinta parte en el lecho quedó.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Un tercio por la joven se salvó.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La décima parte el bien enamorado recogió.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Y con sus seis perlas el cordón quedó.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¿Dime lector cuántas perlas tenía el collar de los bienaventurados?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8b8b8b"/>
                </a:solidFill>
                <a:latin typeface="Euphemia"/>
              </a:rPr>
              <a:t>Propósito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43720" indent="-24372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	</a:t>
            </a: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Que  al  participar  plenamente  en  este  taller: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3720" indent="-24372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3720" indent="-243720"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Euphemia"/>
              </a:rPr>
              <a:t>	</a:t>
            </a: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Resignifiquemos* el desarrollo del pensamiento lógico matemático, mediante ejercicios transversales, para fortalecer las prácticas supervisoras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3720" indent="-243720"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3720" indent="-243720"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3720" indent="-243720"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65562"/>
                </a:solidFill>
                <a:latin typeface="Euphemia"/>
              </a:rPr>
              <a:t>* Para efectos de este taller, se concibe “resignificar” como acción de  dar un nuevo sentido, nueva interpretación.</a:t>
            </a:r>
            <a:endParaRPr b="0" lang="en-US" sz="20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93360" y="177480"/>
            <a:ext cx="10045800" cy="15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Reflexionemos acerca del sentido de las actividades previas.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83" name="2 CuadroTexto"/>
          <p:cNvSpPr/>
          <p:nvPr/>
        </p:nvSpPr>
        <p:spPr>
          <a:xfrm>
            <a:off x="1630440" y="2133720"/>
            <a:ext cx="9648720" cy="43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¿Qué relación tienen con el desarrollo del pensamiento lógico- matemático?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¿Qué consecuencias tiene para nuestra función supervisora este tipo de actividades?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Para fortalecer actividades que propicien el desarrollo del pensamiento lógico-matemático, ¿qué compromisos asumo en mi función supervisora?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Indaguemos, descubramos y sugiramos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85" name="2 CuadroTexto"/>
          <p:cNvSpPr/>
          <p:nvPr/>
        </p:nvSpPr>
        <p:spPr>
          <a:xfrm>
            <a:off x="1557360" y="1700280"/>
            <a:ext cx="9650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En los mismos equipos, analicemos los siguientes textos: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Tabla de contenidos de SNyPA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Competencias de  SNyPA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Orientaciones metodológicas del eje SNyPA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D. Tabla de contenidos de FEyM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E.  Competencias de FEyM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F.  Orientaciones metodológicas del eje FEyM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Analicemos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87" name="2 CuadroTexto"/>
          <p:cNvSpPr/>
          <p:nvPr/>
        </p:nvSpPr>
        <p:spPr>
          <a:xfrm>
            <a:off x="1701720" y="1700280"/>
            <a:ext cx="9433080" cy="38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Identifiquemos las temáticas manifiestas en las tablas de contenidos.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Reconozcamos habilidades presentes en cada competencia.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- Redactemos recomendaciones para propiciar el aprendizaje de contenidos de los ejes de SNyPA y FEyM.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Compartamos los resultados del trabajo en equipos 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Apliquemos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90" name="2 CuadroTexto"/>
          <p:cNvSpPr/>
          <p:nvPr/>
        </p:nvSpPr>
        <p:spPr>
          <a:xfrm>
            <a:off x="1486080" y="1628640"/>
            <a:ext cx="99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Grupalmente, leamos el fragmento de un registro de práctica.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391" name="3 CuadroTexto"/>
          <p:cNvSpPr/>
          <p:nvPr/>
        </p:nvSpPr>
        <p:spPr>
          <a:xfrm>
            <a:off x="1486080" y="2349360"/>
            <a:ext cx="9937440" cy="34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Analicemos: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- ¿Qué necesidades académicas identificamos en las acciones docentes presentadas en el fragmento de registro de práctica?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- ¿Cómo podemos contribuir a satisfacer las necesidades  académicas identificadas, para apoyar la mejora de la práctica docente a corto y mediano plazo?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Fortalezcamos nuestros procesos de acompañamiento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93" name="2 CuadroTexto"/>
          <p:cNvSpPr/>
          <p:nvPr/>
        </p:nvSpPr>
        <p:spPr>
          <a:xfrm>
            <a:off x="1630440" y="1628640"/>
            <a:ext cx="943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A partir de la experiencia en el presente taller, ¿qué elementos podemos integrar al </a:t>
            </a:r>
            <a:r>
              <a:rPr b="0" i="1" lang="es-MX" sz="2800" spc="-1" strike="noStrike">
                <a:solidFill>
                  <a:srgbClr val="465562"/>
                </a:solidFill>
                <a:latin typeface="Arial"/>
              </a:rPr>
              <a:t>Plan de Visita a las Escuelas </a:t>
            </a: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¿Cómo podemos asumir la observación de prácticas de enseñanza orientadas a propiciar el desarrollo del pensamiento lógico-matemático?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¿Cómo podemos retroalimentar las prácticas docentes para que contribuyan efectivamente al desarrollo del pensamiento lógico-matemático?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93360" y="691920"/>
            <a:ext cx="97822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Evaluemos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95" name="2 CuadroTexto"/>
          <p:cNvSpPr/>
          <p:nvPr/>
        </p:nvSpPr>
        <p:spPr>
          <a:xfrm>
            <a:off x="1557360" y="1628640"/>
            <a:ext cx="9650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Grupalmente, valoremos la pertinencia del Taller, de acuerdo con la técnica siguiente: 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846440" y="2708280"/>
          <a:ext cx="8712000" cy="3205080"/>
        </p:xfrm>
        <a:graphic>
          <a:graphicData uri="http://schemas.openxmlformats.org/drawingml/2006/table">
            <a:tbl>
              <a:tblPr/>
              <a:tblGrid>
                <a:gridCol w="2903400"/>
                <a:gridCol w="2905200"/>
                <a:gridCol w="2903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Euphemia"/>
                        </a:rPr>
                        <a:t>Positivo</a:t>
                      </a: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aa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Euphemia"/>
                        </a:rPr>
                        <a:t>Negativo</a:t>
                      </a: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aa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Euphemia"/>
                        </a:rPr>
                        <a:t>Interesante </a:t>
                      </a: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aab7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2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2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2e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4 CuadroTexto"/>
          <p:cNvSpPr/>
          <p:nvPr/>
        </p:nvSpPr>
        <p:spPr>
          <a:xfrm>
            <a:off x="909720" y="2637000"/>
            <a:ext cx="10656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65562"/>
                </a:solidFill>
                <a:latin typeface="Arial"/>
              </a:rPr>
              <a:t>¡Muchas gracias por su participación!</a:t>
            </a:r>
            <a:endParaRPr b="0" lang="en-US" sz="4400" spc="-1" strike="noStrike">
              <a:solidFill>
                <a:srgbClr val="46556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Recuperemos saberes previos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593360" y="171468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Grupalmente, respondamos las siguientes preguntas: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¿Qué sabemos del pensamiento lógico- matemático?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¿Qué implicaciones tiene en el aprendizaje?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¿Qué relación tiene con la función supervisora?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¿Qué sabemos del pensamiento lógico- matemático?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¿Qué implicaciones tiene el pensamiento lógico- matemático en el aprendizaje?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93360" y="538200"/>
            <a:ext cx="9782280" cy="15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¿Qué relación tiene la intención de contribuir al desarrollo del pensamiento lógico-matemático en la educación primaria con la función supervisora?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593360" y="2421000"/>
            <a:ext cx="978228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¡Fortalezcamos saberes!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En equipos, efectuemos las siguientes tareas, con la estrategia respectiva: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algn="just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Razonamiento lógico- matemático, con mapa mental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algn="just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B. Ejes: Sentido Numérico y Pensamiento Algebraico (SNPA) y Forma Espacio y Medida (FEM), con una secuencia de ideas clave a través de imágenes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C.  Problemas, con una carta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D. </a:t>
            </a:r>
            <a:r>
              <a:rPr b="0" lang="es-MX" sz="2800" spc="-1" strike="noStrike" u="sng">
                <a:solidFill>
                  <a:srgbClr val="8fc48c"/>
                </a:solidFill>
                <a:uFillTx/>
                <a:latin typeface="Euphemia"/>
                <a:hlinkClick r:id="rId1"/>
              </a:rPr>
              <a:t>Desafíos, </a:t>
            </a: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con un cartel publicitario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E. Acertijos, con un cuadro sinóptico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65562"/>
                </a:solidFill>
                <a:latin typeface="Euphemia"/>
              </a:rPr>
              <a:t>¿Qué relación tienen entre sí las temáticas analizadas?, ¿de qué manera abona al aprendizaje?, ¿qué implica para la función supervisora?</a:t>
            </a:r>
            <a:endParaRPr b="0" lang="en-US" sz="44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65562"/>
                </a:solidFill>
                <a:latin typeface="Euphemia"/>
              </a:rPr>
              <a:t>Escribir un </a:t>
            </a:r>
            <a:r>
              <a:rPr b="0" lang="es-MX" sz="4400" spc="-1" strike="noStrike" u="sng">
                <a:solidFill>
                  <a:srgbClr val="8fc48c"/>
                </a:solidFill>
                <a:uFillTx/>
                <a:latin typeface="Euphemia"/>
                <a:hlinkClick r:id="rId1"/>
              </a:rPr>
              <a:t>artículo.</a:t>
            </a:r>
            <a:endParaRPr b="0" lang="en-US" sz="44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9T21:43:01Z</dcterms:created>
  <dc:creator/>
  <dc:description/>
  <dc:language>en-US</dc:language>
  <cp:lastModifiedBy/>
  <dcterms:modified xsi:type="dcterms:W3CDTF">2015-01-12T21:35:3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79991</vt:lpwstr>
  </property>
</Properties>
</file>