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75B-28EC-4E52-BB6B-193C07D9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6C05-0712-42F7-9A12-D7436839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66EE-3E68-4C68-AFC4-014FB361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DF1-3D6A-47F0-870F-D156F0D9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1E37-BA37-4D71-893B-7AA7FF3E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F64B-CD3C-423D-BA77-8F0FAC3E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FB1A-DE23-454A-A7D2-1FFF56A6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C920-434C-451A-AA08-E3065DEF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3AB9-2ED9-4BD7-A301-EB7CDBF4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BDB5-2FD1-4455-A450-52EDD10B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54F3-5B19-4DE0-91A8-D3321077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F36-9851-41DB-947C-9939E9C0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C3F9-52C0-4ACF-8205-4ADD90D0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D24C-AD6B-4AA1-8E49-AB1051B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D712-DA6C-4B77-930D-90DC46FA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29CA-48F1-4A05-8D75-4052C3E2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DD8F-F509-421F-8D9B-8F34E18E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CA6DF-2C54-403F-8627-72246513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A0F1-B2AB-4727-B8FA-C97CAC21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26DE3-5A29-4B4B-9034-C58B5328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DF15-820E-40D6-9238-B459520A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2D04E-D069-47A5-9D4D-66E871F7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32D-22BA-4378-ADFC-7734109B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163AA-DC31-4593-9274-629925EE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B569-00AB-46DF-B8E4-073DFAE9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AE98-AFD9-44BA-8FB9-FA89DAFC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C0FB-87E5-4E22-ABBD-F7EFAED3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39E7E-DCDB-4D9F-B19F-074B533F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A8F9-91E5-48D1-9578-3958FB9B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1B52-C03F-48F4-A818-9009C55F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67104-CAC4-4072-87DE-AAA8CE00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0B79-9EA3-46B7-94CC-13FED60C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BCCF-1EE8-48D4-B4AB-3AC05240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2A5-86FD-4B05-B468-C674F473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9C09-B31E-45B3-A613-E6F4F6FB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8BB4D-4282-4820-966D-AF36897A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44689-63E0-412F-B375-817DB530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8E670-5598-465B-8B40-A126FC7D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83E2-474E-42F5-9CC2-B01FA0CE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31F0-8930-4542-BE80-A3B33B8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F5F9A-BBA9-43B7-B745-47149583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25F2F-0C5C-47AF-863D-10FFC830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3B6A-2866-44F1-9E28-38BEDBEF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B8294-98C8-4059-A304-93E30006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F58-041D-4A36-954F-0F7FD82A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8D6B7-951B-4274-BDB2-96F551EF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06D5-2B92-43D9-9590-45084B51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5AAE1-D45B-4D7B-8A7B-C8D732A1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0ECAB-A693-4786-B19F-79CC1A53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91BCF-AF01-430F-BB75-21B8E996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491E2-6D64-49A8-8EBD-A6E26D05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0A46E-B8E7-4E87-990C-60F59FE0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26615-2F66-4A93-8796-3C525153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E8B39-23F5-44A8-8343-1D0990D1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6C709-A706-4872-A6C9-F136F305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CF4-A0C6-49BD-918C-98475544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1671E-9C00-4482-9A72-E7376C8F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15C6A-7DC3-42BB-A76C-0AB70B73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3FCC2-AD98-4696-8F8B-8D9C9425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C9997-6A6B-4EEA-A9D1-C72A5962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5BBBE-D4D4-42B2-A52A-77238897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0E4CA-08DE-4968-A67D-947A1D71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097E6-F675-4F1F-AF6D-57B40AFA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B046F-B1DB-41B4-8231-95450577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307A1-2ACF-48FA-90F9-E8290551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0E68-DF1A-4BAE-83F6-D5024A9F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E3A-A6C1-4372-9C7B-733FD902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1315F-B1F5-4098-85B4-B4FF49E5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D4B92-5AFE-48A2-A865-DF2E8DDA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27BA1-F5CE-40A0-B6B3-DE7F9011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5BCB0-1193-49DD-B98E-16CE7CA5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B7F42-9C73-42E9-8B1A-E48E6461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B87CE-12E9-4231-B2C9-5D9DA8DB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3B14A-C4EC-4506-B8FF-862D2D0D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BE365-A4B4-4E26-9193-AD684864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593360" y="177840"/>
            <a:ext cx="978228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17F14-69B4-4351-A8E1-1765B56E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7486A-FF54-4E18-9AC4-73375B02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B90-1E4B-4045-8A7B-E8CF5C5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159D5-8319-4CF0-9092-B134233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AA2D9-6D63-4047-910D-71E207AC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A71BD-CB99-4815-A9DB-7FDEBE41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606000" y="398844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BD2F6-1FE5-45A8-BE68-06F2D067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0104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208360" y="160020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593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90104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208360" y="3988440"/>
            <a:ext cx="3149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86905-4394-4B16-8543-62A988B4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336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06000" y="1600200"/>
            <a:ext cx="4773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3360" y="3988440"/>
            <a:ext cx="9782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D0B-D08E-437F-BA63-9A212EAE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1883960" y="0"/>
            <a:ext cx="304920" cy="6858000"/>
          </a:xfrm>
          <a:prstGeom prst="rect">
            <a:avLst/>
          </a:prstGeom>
          <a:solidFill>
            <a:srgbClr val="47556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617400" y="0"/>
            <a:ext cx="609840" cy="685800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6a809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617400" y="736560"/>
            <a:ext cx="609840" cy="609480"/>
          </a:xfrm>
          <a:prstGeom prst="rect">
            <a:avLst/>
          </a:prstGeom>
          <a:solidFill>
            <a:srgbClr val="47556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4" name="Straight Connector 13"/>
          <p:cNvSpPr/>
          <p:nvPr/>
        </p:nvSpPr>
        <p:spPr>
          <a:xfrm>
            <a:off x="617400" y="736560"/>
            <a:ext cx="60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" name="Straight Connector 14"/>
          <p:cNvSpPr/>
          <p:nvPr/>
        </p:nvSpPr>
        <p:spPr>
          <a:xfrm>
            <a:off x="617400" y="1346040"/>
            <a:ext cx="60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6" name="Pi"/>
          <p:cNvSpPr/>
          <p:nvPr/>
        </p:nvSpPr>
        <p:spPr>
          <a:xfrm>
            <a:off x="755640" y="898560"/>
            <a:ext cx="336600" cy="293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7" name="Straight Connector 15"/>
          <p:cNvSpPr/>
          <p:nvPr/>
        </p:nvSpPr>
        <p:spPr>
          <a:xfrm>
            <a:off x="61740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9aa9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791C-9547-4B1C-B237-906C5CB8619A}" type="slidenum">
              <a:rPr b="0" lang="en-US" sz="1200" spc="-1" strike="noStrike">
                <a:solidFill>
                  <a:srgbClr val="879aa9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11579400" y="5638680"/>
            <a:ext cx="609480" cy="121932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1274480" y="5638680"/>
            <a:ext cx="304920" cy="1219320"/>
          </a:xfrm>
          <a:prstGeom prst="rect">
            <a:avLst/>
          </a:prstGeom>
          <a:solidFill>
            <a:srgbClr val="6a8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219320" y="0"/>
            <a:ext cx="609480" cy="685800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6a8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5638680"/>
            <a:ext cx="12188880" cy="1219320"/>
          </a:xfrm>
          <a:prstGeom prst="rect">
            <a:avLst/>
          </a:prstGeom>
          <a:solidFill>
            <a:srgbClr val="6a8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4" name="Straight Connector 12"/>
          <p:cNvSpPr/>
          <p:nvPr/>
        </p:nvSpPr>
        <p:spPr>
          <a:xfrm>
            <a:off x="11572920" y="5638680"/>
            <a:ext cx="0" cy="1219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5643720"/>
            <a:ext cx="1216080" cy="1214280"/>
          </a:xfrm>
          <a:prstGeom prst="rect">
            <a:avLst/>
          </a:prstGeom>
          <a:solidFill>
            <a:srgbClr val="47556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6" name="Straight Connector 14"/>
          <p:cNvSpPr/>
          <p:nvPr/>
        </p:nvSpPr>
        <p:spPr>
          <a:xfrm>
            <a:off x="121932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7" name="Straight Connector 15"/>
          <p:cNvSpPr/>
          <p:nvPr/>
        </p:nvSpPr>
        <p:spPr>
          <a:xfrm>
            <a:off x="0" y="5630760"/>
            <a:ext cx="1828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8" name="Pi"/>
          <p:cNvSpPr/>
          <p:nvPr/>
        </p:nvSpPr>
        <p:spPr>
          <a:xfrm>
            <a:off x="276120" y="6032520"/>
            <a:ext cx="594000" cy="51912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BA17-0A1A-45DA-9F55-EF7D21B3B96B}" type="slidenum">
              <a:rPr b="0" lang="en-US" sz="1200" spc="-1" strike="noStrike">
                <a:solidFill>
                  <a:srgbClr val="ffffff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8"/>
          <p:cNvSpPr/>
          <p:nvPr/>
        </p:nvSpPr>
        <p:spPr>
          <a:xfrm>
            <a:off x="11579400" y="5638680"/>
            <a:ext cx="609480" cy="121932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11274480" y="5638680"/>
            <a:ext cx="304920" cy="1219320"/>
          </a:xfrm>
          <a:prstGeom prst="rect">
            <a:avLst/>
          </a:prstGeom>
          <a:solidFill>
            <a:srgbClr val="6a8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216080" y="5638680"/>
            <a:ext cx="609480" cy="121932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0" y="5638680"/>
            <a:ext cx="12188880" cy="1219320"/>
          </a:xfrm>
          <a:prstGeom prst="rect">
            <a:avLst/>
          </a:prstGeom>
          <a:solidFill>
            <a:srgbClr val="6a8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4" name="Straight Connector 21"/>
          <p:cNvSpPr/>
          <p:nvPr/>
        </p:nvSpPr>
        <p:spPr>
          <a:xfrm>
            <a:off x="11572920" y="5638680"/>
            <a:ext cx="0" cy="1219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0" y="5643720"/>
            <a:ext cx="1216080" cy="1214280"/>
          </a:xfrm>
          <a:prstGeom prst="rect">
            <a:avLst/>
          </a:prstGeom>
          <a:solidFill>
            <a:srgbClr val="47556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6" name="Pi"/>
          <p:cNvSpPr/>
          <p:nvPr/>
        </p:nvSpPr>
        <p:spPr>
          <a:xfrm>
            <a:off x="276120" y="6032520"/>
            <a:ext cx="594000" cy="51912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7" name="Straight Connector 22"/>
          <p:cNvSpPr/>
          <p:nvPr/>
        </p:nvSpPr>
        <p:spPr>
          <a:xfrm>
            <a:off x="1216080" y="5638680"/>
            <a:ext cx="0" cy="1219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11579400" y="0"/>
            <a:ext cx="609480" cy="60948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11274480" y="0"/>
            <a:ext cx="304920" cy="609480"/>
          </a:xfrm>
          <a:prstGeom prst="rect">
            <a:avLst/>
          </a:prstGeom>
          <a:solidFill>
            <a:srgbClr val="6a8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1219320" y="0"/>
            <a:ext cx="609480" cy="60948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0" y="0"/>
            <a:ext cx="1219320" cy="609480"/>
          </a:xfrm>
          <a:prstGeom prst="rect">
            <a:avLst/>
          </a:prstGeom>
          <a:solidFill>
            <a:srgbClr val="6a8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0" y="0"/>
            <a:ext cx="12188880" cy="609480"/>
          </a:xfrm>
          <a:prstGeom prst="rect">
            <a:avLst/>
          </a:prstGeom>
          <a:solidFill>
            <a:srgbClr val="6a809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3" name="Straight Connector 30"/>
          <p:cNvSpPr/>
          <p:nvPr/>
        </p:nvSpPr>
        <p:spPr>
          <a:xfrm>
            <a:off x="11572920" y="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0" y="0"/>
            <a:ext cx="1216080" cy="609480"/>
          </a:xfrm>
          <a:prstGeom prst="rect">
            <a:avLst/>
          </a:prstGeom>
          <a:solidFill>
            <a:srgbClr val="47556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5" name="Straight Connector 32"/>
          <p:cNvSpPr/>
          <p:nvPr/>
        </p:nvSpPr>
        <p:spPr>
          <a:xfrm>
            <a:off x="1219320" y="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659A-21D5-4533-8A30-A04E9B5817E8}" type="slidenum">
              <a:rPr b="0" lang="en-US" sz="1200" spc="-1" strike="noStrike">
                <a:solidFill>
                  <a:srgbClr val="ffffff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25320" y="0"/>
            <a:ext cx="304920" cy="685800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6a809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59" name="Straight Connector 6"/>
          <p:cNvSpPr/>
          <p:nvPr/>
        </p:nvSpPr>
        <p:spPr>
          <a:xfrm>
            <a:off x="61740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0969560" y="0"/>
            <a:ext cx="922320" cy="6858000"/>
          </a:xfrm>
          <a:prstGeom prst="rect">
            <a:avLst/>
          </a:prstGeom>
          <a:solidFill>
            <a:srgbClr val="6a8093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11891880" y="0"/>
            <a:ext cx="304920" cy="6858000"/>
          </a:xfrm>
          <a:prstGeom prst="rect">
            <a:avLst/>
          </a:prstGeom>
          <a:solidFill>
            <a:srgbClr val="47556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D567-412E-4CFC-B4B2-0E1A5AF788C7}" type="slidenum">
              <a:rPr b="0" lang="en-US" sz="1200" spc="-1" strike="noStrike">
                <a:solidFill>
                  <a:srgbClr val="ffffff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622440" y="0"/>
            <a:ext cx="4146480" cy="6858000"/>
          </a:xfrm>
          <a:prstGeom prst="rect">
            <a:avLst/>
          </a:prstGeom>
          <a:solidFill>
            <a:srgbClr val="475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6a809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05" name="Straight Connector 9"/>
          <p:cNvSpPr/>
          <p:nvPr/>
        </p:nvSpPr>
        <p:spPr>
          <a:xfrm>
            <a:off x="62244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11883960" y="0"/>
            <a:ext cx="304920" cy="6858000"/>
          </a:xfrm>
          <a:prstGeom prst="rect">
            <a:avLst/>
          </a:prstGeom>
          <a:solidFill>
            <a:srgbClr val="475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9aa9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B9BE-A1D1-48B8-B05F-3657F4DF913E}" type="slidenum">
              <a:rPr b="0" lang="en-US" sz="1200" spc="-1" strike="noStrike">
                <a:solidFill>
                  <a:srgbClr val="879aa9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6a809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11883960" y="0"/>
            <a:ext cx="304920" cy="6858000"/>
          </a:xfrm>
          <a:prstGeom prst="rect">
            <a:avLst/>
          </a:prstGeom>
          <a:solidFill>
            <a:srgbClr val="4755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875120" y="0"/>
            <a:ext cx="7016760" cy="6858000"/>
          </a:xfrm>
          <a:prstGeom prst="rect">
            <a:avLst/>
          </a:prstGeom>
          <a:solidFill>
            <a:srgbClr val="c3cc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51" name="Straight Connector 9"/>
          <p:cNvSpPr/>
          <p:nvPr/>
        </p:nvSpPr>
        <p:spPr>
          <a:xfrm>
            <a:off x="1187928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9aa9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8C8B-F978-4C22-AC9D-CA19BB0A461E}" type="slidenum">
              <a:rPr b="0" lang="en-US" sz="1200" spc="-1" strike="noStrike">
                <a:solidFill>
                  <a:srgbClr val="879aa9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11883960" y="0"/>
            <a:ext cx="304920" cy="6858000"/>
          </a:xfrm>
          <a:prstGeom prst="rect">
            <a:avLst/>
          </a:prstGeom>
          <a:solidFill>
            <a:srgbClr val="475562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617400" y="0"/>
            <a:ext cx="609840" cy="6858000"/>
          </a:xfrm>
          <a:prstGeom prst="rect">
            <a:avLst/>
          </a:prstGeom>
          <a:solidFill>
            <a:srgbClr val="9ba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0"/>
            <a:ext cx="609480" cy="6858000"/>
          </a:xfrm>
          <a:prstGeom prst="rect">
            <a:avLst/>
          </a:prstGeom>
          <a:solidFill>
            <a:srgbClr val="6a809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617400" y="736560"/>
            <a:ext cx="609840" cy="609480"/>
          </a:xfrm>
          <a:prstGeom prst="rect">
            <a:avLst/>
          </a:prstGeom>
          <a:solidFill>
            <a:srgbClr val="47556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7" name="Straight Connector 10"/>
          <p:cNvSpPr/>
          <p:nvPr/>
        </p:nvSpPr>
        <p:spPr>
          <a:xfrm>
            <a:off x="617400" y="736560"/>
            <a:ext cx="60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8" name="Straight Connector 11"/>
          <p:cNvSpPr/>
          <p:nvPr/>
        </p:nvSpPr>
        <p:spPr>
          <a:xfrm>
            <a:off x="617400" y="1346040"/>
            <a:ext cx="609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299" name="Pi"/>
          <p:cNvSpPr/>
          <p:nvPr/>
        </p:nvSpPr>
        <p:spPr>
          <a:xfrm rot="5400000">
            <a:off x="756000" y="897480"/>
            <a:ext cx="334800" cy="29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00" name="Straight Connector 13"/>
          <p:cNvSpPr/>
          <p:nvPr/>
        </p:nvSpPr>
        <p:spPr>
          <a:xfrm>
            <a:off x="617400" y="0"/>
            <a:ext cx="0" cy="685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5404a"/>
                </a:solidFill>
                <a:latin typeface="Euphemia"/>
              </a:rPr>
              <a:t>Click to edit the title text format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Click to edit the outline text format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1" marL="61128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con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2" marL="97776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Third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3" marL="134316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our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4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Fif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5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ix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lvl="6" marL="1709640" indent="-24588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5562"/>
                </a:solidFill>
                <a:latin typeface="Euphemia"/>
              </a:rPr>
              <a:t>Seventh Outline Level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51796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6595920" y="6356520"/>
            <a:ext cx="3973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107661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9aa9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41C0-B201-44AA-B087-C8C5CAC9AFFE}" type="slidenum">
              <a:rPr b="0" lang="en-US" sz="1200" spc="-1" strike="noStrike">
                <a:solidFill>
                  <a:srgbClr val="879aa9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Para_genios_en_matematicas_1.pps" TargetMode="External"/><Relationship Id="rId2" Type="http://schemas.openxmlformats.org/officeDocument/2006/relationships/hyperlink" Target="file:///../Para_genios_en_matematicas_1.pps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Desaf&#237;o%20matem&#225;tico.doc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AREA%20Elaboremos%20un%20art&#237;culo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665440" y="1642680"/>
            <a:ext cx="885024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c00000"/>
                </a:solidFill>
                <a:latin typeface="Euphemia"/>
              </a:rPr>
              <a:t>La función supervisora </a:t>
            </a:r>
            <a:br>
              <a:rPr sz="4400"/>
            </a:br>
            <a:r>
              <a:rPr b="1" lang="es-MX" sz="4400" spc="-1" strike="noStrike">
                <a:solidFill>
                  <a:srgbClr val="c00000"/>
                </a:solidFill>
                <a:latin typeface="Euphemia"/>
              </a:rPr>
              <a:t>para fortalecer el desarrollo del pensamiento lógico- matemático</a:t>
            </a:r>
            <a:endParaRPr b="0" lang="en-US" sz="44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665520" y="5429160"/>
            <a:ext cx="751536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00"/>
                </a:solidFill>
                <a:latin typeface="Euphemia"/>
              </a:rPr>
              <a:t>Unión de Tula, Jal., Enero de 2015</a:t>
            </a:r>
            <a:endParaRPr b="0" lang="en-US" sz="29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65562"/>
              </a:solidFill>
              <a:latin typeface="Euphemia"/>
            </a:endParaRPr>
          </a:p>
        </p:txBody>
      </p:sp>
      <p:pic>
        <p:nvPicPr>
          <p:cNvPr id="344" name="4 Imagen" descr="LOGO EDUCACION"/>
          <p:cNvPicPr/>
          <p:nvPr/>
        </p:nvPicPr>
        <p:blipFill>
          <a:blip r:embed="rId1"/>
          <a:stretch/>
        </p:blipFill>
        <p:spPr>
          <a:xfrm>
            <a:off x="3665520" y="0"/>
            <a:ext cx="5388120" cy="2071800"/>
          </a:xfrm>
          <a:prstGeom prst="rect">
            <a:avLst/>
          </a:prstGeom>
          <a:ln w="0">
            <a:noFill/>
          </a:ln>
        </p:spPr>
      </p:pic>
      <p:pic>
        <p:nvPicPr>
          <p:cNvPr id="345" name="4 Rectángulo" descr=""/>
          <p:cNvPicPr/>
          <p:nvPr/>
        </p:nvPicPr>
        <p:blipFill>
          <a:blip r:embed="rId2"/>
          <a:stretch/>
        </p:blipFill>
        <p:spPr>
          <a:xfrm>
            <a:off x="7845480" y="4438800"/>
            <a:ext cx="4127400" cy="118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Presentemos al grupo los productos.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 </a:t>
            </a: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¡Jugando… nos divertimos y aprendemos! 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 algn="just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Integrados en equipos, realicemos las actividades siguientes: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A. 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Ejercicio criptoaritmétic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B. 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Tiro al blanc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C. 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¡Construyamos un cubo!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D</a:t>
            </a:r>
            <a:r>
              <a:rPr b="0" lang="es-MX" sz="2800" spc="-1" strike="noStrike" u="sng">
                <a:solidFill>
                  <a:srgbClr val="8fc48c"/>
                </a:solidFill>
                <a:uFillTx/>
                <a:latin typeface="Euphemia"/>
                <a:hlinkClick r:id="rId1"/>
              </a:rPr>
              <a:t>. </a:t>
            </a:r>
            <a:r>
              <a:rPr b="0" lang="es-MX" sz="2800" spc="-1" strike="noStrike" u="sng">
                <a:solidFill>
                  <a:srgbClr val="8fc48c"/>
                </a:solidFill>
                <a:uFillTx/>
                <a:latin typeface="Euphemia"/>
                <a:hlinkClick r:id="rId2"/>
              </a:rPr>
              <a:t>Los cuatro cuatros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E. 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Sólo tengo dos recipientes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F. </a:t>
            </a: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Poesía con matemáticas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Pongamos en común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Una vez resuelto, presentemos en plenaria: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Resultad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Procedimient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Reflexiones complementarias del ejercici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98760" y="691920"/>
            <a:ext cx="84564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900" spc="-1" strike="noStrike">
                <a:solidFill>
                  <a:srgbClr val="35404a"/>
                </a:solidFill>
                <a:latin typeface="Euphemia"/>
              </a:rPr>
              <a:t>Problema criptoaritmético</a:t>
            </a:r>
            <a:endParaRPr b="0" lang="en-US" sz="49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598760" y="2133360"/>
            <a:ext cx="7264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465562"/>
                </a:solidFill>
                <a:latin typeface="Euphemia"/>
              </a:rPr>
              <a:t>    </a:t>
            </a: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DONALD +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465562"/>
                </a:solidFill>
                <a:uFillTx/>
                <a:latin typeface="Euphemia"/>
              </a:rPr>
              <a:t>  </a:t>
            </a:r>
            <a:r>
              <a:rPr b="0" lang="es-MX" sz="3200" spc="-1" strike="noStrike" u="sng">
                <a:solidFill>
                  <a:srgbClr val="465562"/>
                </a:solidFill>
                <a:uFillTx/>
                <a:latin typeface="Euphemia"/>
              </a:rPr>
              <a:t>G E RALD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  </a:t>
            </a: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ROBERT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D= 5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Dígitos del 0 al 9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itle 1"/>
          <p:cNvSpPr/>
          <p:nvPr/>
        </p:nvSpPr>
        <p:spPr>
          <a:xfrm>
            <a:off x="1814400" y="-27000"/>
            <a:ext cx="8456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300" spc="-1" strike="noStrike">
                <a:solidFill>
                  <a:srgbClr val="35404a"/>
                </a:solidFill>
                <a:latin typeface="Euphemia"/>
              </a:rPr>
              <a:t>Tiro al blanco</a:t>
            </a:r>
            <a:endParaRPr b="0" lang="en-US" sz="5300" spc="-1" strike="noStrike">
              <a:solidFill>
                <a:srgbClr val="465562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422440" y="692280"/>
          <a:ext cx="7345440" cy="5024160"/>
        </p:xfrm>
        <a:graphic>
          <a:graphicData uri="http://schemas.openxmlformats.org/drawingml/2006/table">
            <a:tbl>
              <a:tblPr/>
              <a:tblGrid>
                <a:gridCol w="3672000"/>
                <a:gridCol w="3673440"/>
              </a:tblGrid>
              <a:tr h="5024160">
                <a:tc>
                  <a:txBody>
                    <a:bodyPr lIns="58680" rIns="58680" tIns="82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r presumir de certer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 tirador atrevid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 encontró comprometid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 el lance en que os refiero: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fue, que ante una caseta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 la feria del lugar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sumió de no fallar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i un tiro con la escopeta,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el feriante alzando el gall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 duro ofreció pagarle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r cada acierto  y cobrarle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tres pesetas el fallo.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8680" rIns="58680" tIns="828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eciséis veces tiró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 tirador afamad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al fin dijo, despechad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r los tiros que falló: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Mala escopeta fue el cebo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la causa de mi afrenta,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o ajustada la cuenta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I ME DEBES NI TE DEBO.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 todo el que atentamente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e relato siguió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drá decir fácilmente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ántos tiros acertó. </a:t>
                      </a:r>
                      <a:r>
                        <a:rPr b="1" lang="es-MX" sz="2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21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5000" y="765000"/>
            <a:ext cx="11017440" cy="482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35404a"/>
                </a:solidFill>
                <a:latin typeface="Euphemia"/>
              </a:rPr>
              <a:t>-</a:t>
            </a:r>
            <a:endParaRPr b="0" lang="en-US" sz="10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72" name="Title 1"/>
          <p:cNvSpPr/>
          <p:nvPr/>
        </p:nvSpPr>
        <p:spPr>
          <a:xfrm>
            <a:off x="1814400" y="-27000"/>
            <a:ext cx="8456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300" spc="-1" strike="noStrike">
                <a:solidFill>
                  <a:srgbClr val="35404a"/>
                </a:solidFill>
                <a:latin typeface="Euphemia"/>
              </a:rPr>
              <a:t>¡Hagamos un cubo!</a:t>
            </a:r>
            <a:endParaRPr b="0" lang="en-US" sz="5300" spc="-1" strike="noStrike">
              <a:solidFill>
                <a:srgbClr val="465562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773360" y="692280"/>
            <a:ext cx="943452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269720" y="620280"/>
            <a:ext cx="1022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- 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198440" y="620640"/>
            <a:ext cx="1039176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46080" y="-360"/>
            <a:ext cx="8283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900" spc="-1" strike="noStrike">
                <a:solidFill>
                  <a:srgbClr val="35404a"/>
                </a:solidFill>
                <a:latin typeface="Euphemia"/>
              </a:rPr>
              <a:t>Los cuatro cuatros</a:t>
            </a:r>
            <a:endParaRPr b="0" lang="en-US" sz="49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925640" y="692280"/>
            <a:ext cx="9064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“…</a:t>
            </a: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esta tienda se llama “</a:t>
            </a:r>
            <a:r>
              <a:rPr b="0" i="1" lang="es-MX" sz="3200" spc="-1" strike="noStrike">
                <a:solidFill>
                  <a:srgbClr val="465562"/>
                </a:solidFill>
                <a:latin typeface="Euphemia"/>
              </a:rPr>
              <a:t>Los cuatro cuatros</a:t>
            </a: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”. Es una coincidencia digna de la mayor atención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¿Coincidencia? ¿Por qué?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La inscripción de ese cartel recuerda una de las maravillas del Cálculo: empleando cuatro cuatros podemos formar un número cualquiera…”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4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	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4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	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4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	</a:t>
            </a: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4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42760" y="-100440"/>
            <a:ext cx="975204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35404a"/>
                </a:solidFill>
                <a:latin typeface="Euphemia"/>
              </a:rPr>
              <a:t>Sólo tengo dos recipientes</a:t>
            </a:r>
            <a:endParaRPr b="0" lang="en-US" sz="54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854360" y="764640"/>
            <a:ext cx="9353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Una persona entró en una tienda en la Rwanda rural y compró 4 litros de aceite de palma. El propietario busca detrás del contador y saca una garrafa grande de aceite, pero se disculpa diciendo que sólo tiene una botella vieja de tres litros y una garrafa de aceite lubricante de 5 litros en los que puede echar el líquido. Le dice que no se preocupe, que es posible medir 4 litros utilizando esos dos recipientes aunque no tenga marcas que sirvan de referencia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¿Cómo lo hace? 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46080" y="-360"/>
            <a:ext cx="8283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900" spc="-1" strike="noStrike">
                <a:solidFill>
                  <a:srgbClr val="35404a"/>
                </a:solidFill>
                <a:latin typeface="Euphemia"/>
              </a:rPr>
              <a:t>Poesía con matemáticas</a:t>
            </a:r>
            <a:endParaRPr b="0" lang="en-US" sz="49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25360" y="691920"/>
            <a:ext cx="108014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65562"/>
                </a:solidFill>
                <a:latin typeface="Euphemia"/>
              </a:rPr>
              <a:t>PROBLEMA DE LAS PERLAS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Un collar se rompió mientras jugaban dos enamorados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Una hilera de perlas se escap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La sexta parte al suelo cay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La quinta parte en el lecho qued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Un tercio por la joven se salv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La décima parte el bien enamorado recogi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Y con sus seis perlas el cordón quedó.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65562"/>
                </a:solidFill>
                <a:latin typeface="Euphemia"/>
              </a:rPr>
              <a:t>¿Dime lector cuántas perlas tenía el collar de los bienaventurados?</a:t>
            </a: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8b8b8b"/>
                </a:solidFill>
                <a:latin typeface="Euphemia"/>
              </a:rPr>
              <a:t>Propósito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43720" indent="-2437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	</a:t>
            </a: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Que  al  participar  plenamente  en  este  taller: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3720" indent="-24372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3720" indent="-24372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Euphemia"/>
              </a:rPr>
              <a:t>	</a:t>
            </a: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Resignifiquemos* el desarrollo del pensamiento lógico matemático, mediante ejercicios transversales, para fortalecer las prácticas supervisoras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3720" indent="-24372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3720" indent="-24372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marL="243720" indent="-243720"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65562"/>
                </a:solidFill>
                <a:latin typeface="Euphemia"/>
              </a:rPr>
              <a:t>* Para efectos de este taller, se concibe “resignificar” como acción de  dar un nuevo sentido, nueva interpretación.</a:t>
            </a:r>
            <a:endParaRPr b="0" lang="en-US" sz="20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93360" y="177480"/>
            <a:ext cx="10045800" cy="15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Reflexionemos acerca del sentido de las actividades previas.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83" name="2 CuadroTexto"/>
          <p:cNvSpPr/>
          <p:nvPr/>
        </p:nvSpPr>
        <p:spPr>
          <a:xfrm>
            <a:off x="1630440" y="2133720"/>
            <a:ext cx="9648720" cy="43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¿Qué relación tienen con el desarrollo del pensamiento lógico- matemático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¿Qué consecuencias tiene para nuestra función supervisora este tipo de actividades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Para fortalecer actividades que propicien el desarrollo del pensamiento lógico-matemático, ¿qué compromisos asumo en mi función supervisora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Indaguemos, descubramos y sugiramos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85" name="2 CuadroTexto"/>
          <p:cNvSpPr/>
          <p:nvPr/>
        </p:nvSpPr>
        <p:spPr>
          <a:xfrm>
            <a:off x="1557360" y="1700280"/>
            <a:ext cx="9650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En los mismos equipos, analicemos los siguientes textos: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Tabla de contenidos de SNyPA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Competencias de  SNyPA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Orientaciones metodológicas del eje SNyPA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D. Tabla de contenidos de FEyM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E.  Competencias de FEyM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F.  Orientaciones metodológicas del eje FEyM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Analicemos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87" name="2 CuadroTexto"/>
          <p:cNvSpPr/>
          <p:nvPr/>
        </p:nvSpPr>
        <p:spPr>
          <a:xfrm>
            <a:off x="1701720" y="1700280"/>
            <a:ext cx="943308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Identifiquemos las temáticas manifiestas en las tablas de contenidos.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Reconozcamos habilidades presentes en cada competencia.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- Redactemos recomendaciones para propiciar el aprendizaje de contenidos de los ejes de SNyPA y FEyM.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Compartamos los resultados del trabajo en equipos 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Apliquemos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90" name="2 CuadroTexto"/>
          <p:cNvSpPr/>
          <p:nvPr/>
        </p:nvSpPr>
        <p:spPr>
          <a:xfrm>
            <a:off x="1486080" y="1628640"/>
            <a:ext cx="99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Grupalmente, leamos el fragmento de un registro de práctica.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  <p:sp>
        <p:nvSpPr>
          <p:cNvPr id="391" name="3 CuadroTexto"/>
          <p:cNvSpPr/>
          <p:nvPr/>
        </p:nvSpPr>
        <p:spPr>
          <a:xfrm>
            <a:off x="1486080" y="2349360"/>
            <a:ext cx="993744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Analicemos: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- ¿Qué necesidades académicas identificamos en las acciones docentes presentadas en el fragmento de registro de práctica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- ¿Cómo podemos contribuir a satisfacer las necesidades  académicas identificadas, para apoyar la mejora de la práctica docente a corto y mediano plazo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Fortalezcamos nuestros procesos de acompañamiento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93" name="2 CuadroTexto"/>
          <p:cNvSpPr/>
          <p:nvPr/>
        </p:nvSpPr>
        <p:spPr>
          <a:xfrm>
            <a:off x="1630440" y="1628640"/>
            <a:ext cx="943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A partir de la experiencia en el presente taller, ¿qué elementos podemos integrar al </a:t>
            </a:r>
            <a:r>
              <a:rPr b="0" i="1" lang="es-MX" sz="2800" spc="-1" strike="noStrike">
                <a:solidFill>
                  <a:srgbClr val="465562"/>
                </a:solidFill>
                <a:latin typeface="Arial"/>
              </a:rPr>
              <a:t>Plan de Visita a las Escuelas </a:t>
            </a: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¿Cómo podemos asumir la observación de prácticas de enseñanza orientadas a propiciar el desarrollo del pensamiento lógico-matemático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  <a:p>
            <a:pPr>
              <a:buClr>
                <a:srgbClr val="46556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¿Cómo podemos retroalimentar las prácticas docentes para que contribuyan efectivamente al desarrollo del pensamiento lógico-matemático?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93360" y="691920"/>
            <a:ext cx="97822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Evaluemos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95" name="2 CuadroTexto"/>
          <p:cNvSpPr/>
          <p:nvPr/>
        </p:nvSpPr>
        <p:spPr>
          <a:xfrm>
            <a:off x="1557360" y="1628640"/>
            <a:ext cx="9650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65562"/>
                </a:solidFill>
                <a:latin typeface="Arial"/>
              </a:rPr>
              <a:t>Grupalmente, valoremos la pertinencia del Taller, de acuerdo con la técnica siguiente: </a:t>
            </a:r>
            <a:endParaRPr b="0" lang="en-US" sz="2800" spc="-1" strike="noStrike">
              <a:solidFill>
                <a:srgbClr val="465562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846440" y="2708280"/>
          <a:ext cx="8712000" cy="3205080"/>
        </p:xfrm>
        <a:graphic>
          <a:graphicData uri="http://schemas.openxmlformats.org/drawingml/2006/table">
            <a:tbl>
              <a:tblPr/>
              <a:tblGrid>
                <a:gridCol w="2903400"/>
                <a:gridCol w="2905200"/>
                <a:gridCol w="290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Positivo</a:t>
                      </a: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a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Negativo</a:t>
                      </a: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aab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Interesante </a:t>
                      </a: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aab7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2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6556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2e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4 CuadroTexto"/>
          <p:cNvSpPr/>
          <p:nvPr/>
        </p:nvSpPr>
        <p:spPr>
          <a:xfrm>
            <a:off x="909720" y="2637000"/>
            <a:ext cx="106567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65562"/>
                </a:solidFill>
                <a:latin typeface="Arial"/>
              </a:rPr>
              <a:t>¡Muchas gracias por su participación!</a:t>
            </a:r>
            <a:endParaRPr b="0" lang="en-US" sz="4400" spc="-1" strike="noStrike">
              <a:solidFill>
                <a:srgbClr val="46556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Recuperemos saberes previos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93360" y="171468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Grupalmente, respondamos las siguientes preguntas: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¿Qué sabemos del pensamiento lógico- matemático?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¿Qué implicaciones tiene en el aprendizaje?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¿Qué relación tiene con la función supervisora?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¿Qué sabemos del pensamiento lógico- matemático?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¿Qué implicaciones tiene el pensamiento lógico- matemático en el aprendizaje?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93360" y="538200"/>
            <a:ext cx="9782280" cy="15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¿Qué relación tiene la intención de contribuir al desarrollo del pensamiento lógico-matemático en la educación primaria con la función supervisora?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593360" y="2421000"/>
            <a:ext cx="978228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6240" indent="-246240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5404a"/>
                </a:solidFill>
                <a:latin typeface="Euphemia"/>
              </a:rPr>
              <a:t>¡Fortalezcamos saberes!</a:t>
            </a: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En equipos, efectuemos las siguientes tareas, con la estrategia respectiva: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algn="just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Razonamiento lógico- matemático, con mapa mental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 algn="just"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B. Ejes: Sentido Numérico y Pensamiento Algebraico (SNPA) y Forma Espacio y Medida (FEM), con una secuencia de ideas clave a través de imágenes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C.  Problemas, con una carta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buClr>
                <a:srgbClr val="465562"/>
              </a:buClr>
              <a:buFont typeface="Euphemi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D. </a:t>
            </a:r>
            <a:r>
              <a:rPr b="0" lang="es-MX" sz="2800" spc="-1" strike="noStrike" u="sng">
                <a:solidFill>
                  <a:srgbClr val="8fc48c"/>
                </a:solidFill>
                <a:uFillTx/>
                <a:latin typeface="Euphemia"/>
                <a:hlinkClick r:id="rId1"/>
              </a:rPr>
              <a:t>Desafíos, </a:t>
            </a: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con un cartel publicitari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65562"/>
                </a:solidFill>
                <a:latin typeface="Euphemia"/>
              </a:rPr>
              <a:t>E. Acertijos, con un cuadro sinóptico.</a:t>
            </a: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593360" y="177840"/>
            <a:ext cx="978228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5404a"/>
              </a:solidFill>
              <a:latin typeface="Euphemi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593360" y="1600200"/>
            <a:ext cx="9782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65562"/>
                </a:solidFill>
                <a:latin typeface="Euphemia"/>
              </a:rPr>
              <a:t>¿Qué relación tienen entre sí las temáticas analizadas?, ¿de qué manera abona al aprendizaje?, ¿qué implica para la función supervisora?</a:t>
            </a:r>
            <a:endParaRPr b="0" lang="en-US" sz="4400" spc="-1" strike="noStrike">
              <a:solidFill>
                <a:srgbClr val="465562"/>
              </a:solidFill>
              <a:latin typeface="Euphemia"/>
            </a:endParaRPr>
          </a:p>
          <a:p>
            <a:pPr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65562"/>
                </a:solidFill>
                <a:latin typeface="Euphemia"/>
              </a:rPr>
              <a:t>Escribir un </a:t>
            </a:r>
            <a:r>
              <a:rPr b="0" lang="es-MX" sz="4400" spc="-1" strike="noStrike" u="sng">
                <a:solidFill>
                  <a:srgbClr val="8fc48c"/>
                </a:solidFill>
                <a:uFillTx/>
                <a:latin typeface="Euphemia"/>
                <a:hlinkClick r:id="rId1"/>
              </a:rPr>
              <a:t>artículo.</a:t>
            </a:r>
            <a:endParaRPr b="0" lang="en-US" sz="4400" spc="-1" strike="noStrike">
              <a:solidFill>
                <a:srgbClr val="465562"/>
              </a:solidFill>
              <a:latin typeface="Euphem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21:43:01Z</dcterms:created>
  <dc:creator/>
  <dc:description/>
  <dc:language>en-US</dc:language>
  <cp:lastModifiedBy/>
  <dcterms:modified xsi:type="dcterms:W3CDTF">2015-01-12T21:35:3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7879479991</vt:lpwstr>
  </property>
</Properties>
</file>